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C426E-9DFA-4DB0-A6EF-31E4E50C6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A16F-08C9-40EE-8275-A03F94B96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87F3E-49B6-4402-B1E1-91EB1576C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88B89-BF22-4E5C-B615-7B477088B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8C54-0C30-40CB-AD81-71F4AFCA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0B35-775A-4ABE-9C2F-8579B877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79139-B40B-420D-BD1A-CE742D3F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A02E9-562A-4E64-8B28-F539791FC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17A5D-3B66-44A6-8CF3-19CE370F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5B3A-4C5B-465E-8D7D-452248D2C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7FC4-E704-4214-B4B8-EFBFD805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1172-A30D-439C-AB7B-5044C8131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F3D1-C4CC-483D-BC94-0E833C5BC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2"/>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3"/>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4"/>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5"/>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6"/>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7"/>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2"/>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3"/>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4"/>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Student</cp:lastModifiedBy>
  <dcterms:modified xsi:type="dcterms:W3CDTF">2012-07-12T12:38:09Z</dcterms:modified>
  <cp:revision>22</cp:revision>
  <dc:subject/>
  <dc:title>MONTH OF APRIL</dc:title>
</cp:coreProperties>
</file>